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118903"/>
        <c:axId val="66477575"/>
      </c:barChart>
      <c:catAx>
        <c:axId val="551189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477575"/>
        <c:crosses val="autoZero"/>
        <c:auto val="1"/>
        <c:lblAlgn val="ctr"/>
        <c:lblOffset val="100"/>
        <c:noMultiLvlLbl val="0"/>
      </c:catAx>
      <c:valAx>
        <c:axId val="664775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1189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0E36-4D64-4BAD-AF93-48BC067B0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1385-B08E-43F5-ACD0-63720585C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8D66-E393-481A-B099-7C712229E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7C9E-A570-4C37-AFAB-C01178E5F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3119-0BBA-4A0D-B8AC-411C9B863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D44F-38B1-4982-B411-1509E7C32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35B1-200F-49D7-9178-1FFE5887B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10BE-2C73-4BDA-9E8F-CFAD1241F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F2B3-5C2E-4949-B50F-64BA16AFC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743D-05BA-4F42-8FE4-2129F473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E4A2-8DD4-404B-AD5D-C3196303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A434-FC22-4091-8F7F-B65C98EA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8853F6-7395-4CF3-A499-3701ABEF504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