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810599"/>
        <c:axId val="26906184"/>
      </c:barChart>
      <c:catAx>
        <c:axId val="15810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06184"/>
        <c:crosses val="autoZero"/>
        <c:auto val="1"/>
        <c:lblAlgn val="ctr"/>
        <c:lblOffset val="100"/>
        <c:noMultiLvlLbl val="0"/>
      </c:catAx>
      <c:valAx>
        <c:axId val="26906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10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2563-A75E-4D5A-A6EA-E16D38F4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8EE-7A51-4E61-B7F2-77D8BE44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89C-2659-4E8B-8E71-779F82A9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D2F-56B2-43C7-8CA4-BA6803F5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8D7-8A47-47A2-AE3A-5959A8F8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DFB-9FD3-427B-98DB-A9D9908D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D1C-8678-4A63-ABCA-767FDBE8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AF9-C9CF-456D-959A-44C14A8C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A2C-4B34-40B7-B5B6-A8E98533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6CEB-6F70-4461-B860-47D97C97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096-7990-498E-8599-A05A1628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984-657E-4E38-A64D-B77EDACA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26018-A140-4D92-BDDE-5C6868DA74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